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E8C-C4BD-44BF-A325-ECEC064C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67A-3E30-4329-9F3F-4F8C55C1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B1F-6261-4631-92C7-C5D85E9F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310-AD54-49D2-9881-0560DD05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BAE-1A42-42AB-B0F3-E194A095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1DE1-D8BE-45D8-BAAA-F834B0DE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74F-F40A-4652-A146-649FC97E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CE5-56F2-4544-99E8-10EDAD08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0C3-D58D-4A3C-B9B2-C4BB21DF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FC8-DFA6-417E-90A5-3F4AD590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9EA-5574-4C95-B3E5-4D0452D2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03C-E248-4BAF-8FD5-EADDBFE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BB60-1133-4A81-AC1D-BE8CE3F61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he conquistado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te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ztec used to live in central Mexic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lived in the valley of Mex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Capital was Tenochtitlan it was built in the middle of a lake, today is Mexico 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e  fro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rystalinks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ztec thought Cortez was Quetzacoatl a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ght skinned/ bearde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3962520"/>
            <a:ext cx="4314600" cy="270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81680" y="13716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NGE= AZ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ya used to live on the Mexico coast, Yucatan     Penins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here polytheist (believed in more then one go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one majo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from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inks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19560" y="3763800"/>
            <a:ext cx="4924440" cy="3094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48520" y="3276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N=MAY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as lived in South America, specifically in the Andes MTS, and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was Cuzco population 20 million of the hole civiliz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polytheistic (believe in many Go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easily concord by Pizarro and the Spanish, because two gropes in the Inca civilization were fighting, that a civil war. The Spanish concord the Incas and the Spanish are called conquistadors.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a.phillipmartin.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= I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0" y="4800600"/>
            <a:ext cx="1959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tez conquered the Aztecs by posing as friends and Cortez trying to by a god taking ruler Montezum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81280" y="3581280"/>
            <a:ext cx="4981680" cy="279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3800" y="324576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npop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354480"/>
            <a:ext cx="2438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traveled with 500 men and 16 horses and conquered the Aztecs in 1519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zaro took over Inca empire by sneaking in while they were in a civil wa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2303280" cy="350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60320" y="32457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istory.wikia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4812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k over a big empire with only 180 men and 27 hor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3716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changed central and south America by forcing there religion to the aztecs,mayas,incas. Who liked there own relig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18064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3:49:54Z</dcterms:created>
  <dc:creator>jklib</dc:creator>
  <dc:description/>
  <dc:language>en-US</dc:language>
  <cp:lastModifiedBy>jklib</cp:lastModifiedBy>
  <dcterms:modified xsi:type="dcterms:W3CDTF">2011-11-30T17:36:34Z</dcterms:modified>
  <cp:revision>6</cp:revision>
  <dc:subject/>
  <dc:title>Cortez and Pizzaro </dc:title>
</cp:coreProperties>
</file>